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CC5-3A3E-42A7-86FC-BC2095D8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589-D233-49EE-B673-704D1082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AC6C-CAA7-4371-A986-149AD255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BAE2-6D32-43CE-B694-DA07D7EE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877-1361-416C-BD8C-BF7AD3C2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BE4-F47A-48CC-B7DE-94D84E3D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EB0-04C5-47E7-BE47-884B48A1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11B-528F-4740-9477-BD0C170A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BAFB-CBEF-4096-9F24-A2337271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C2F-ECFC-4F9A-AFAA-AC343FC8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40C-125C-4F42-8E72-A8BE0B3F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38D5-FE4F-45D2-9286-1923C8AE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D700-C72E-4707-A61B-87A500D3D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a European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ituații stati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1628640"/>
          <a:ext cx="8229600" cy="3703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Ț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derea în economia european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ț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Comer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68360" y="1628640"/>
          <a:ext cx="8229600" cy="3703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Ț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derea în economia european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ț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8360" y="1628640"/>
          <a:ext cx="8229600" cy="3703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Ț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derea în economia european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ț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20:03:49Z</dcterms:created>
  <dc:creator>AS</dc:creator>
  <dc:description/>
  <dc:language>en-US</dc:language>
  <cp:lastModifiedBy>AS</cp:lastModifiedBy>
  <dcterms:modified xsi:type="dcterms:W3CDTF">2010-01-07T10:54:06Z</dcterms:modified>
  <cp:revision>8</cp:revision>
  <dc:subject/>
  <dc:title>Curs valutar</dc:title>
</cp:coreProperties>
</file>